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E0C-FC82-42C9-999A-1A5FB647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9DB-A914-4CAA-B354-967ABD54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CB2-26BB-4885-A055-41BB2400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D83-7175-4BAD-B5CA-5676D9BE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45FC-7CCF-41EC-A517-AFFEAB27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B4CB-2CD6-4491-8C68-61BF7B5A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4039-0B25-4704-B77E-5AD08C19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4F8F-85DC-4CD5-8FD9-F04DE00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E83A-10DD-4B2A-BA59-2C096A5F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0F54-E36C-40AE-B841-9CD103B5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23B1-47B8-43F8-AFE4-965BA8EE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B84-210C-4C49-B574-45C1D812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8FF9-7D60-4F00-888B-ABE4C300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BC88-1285-4705-B386-C508695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E6AF-9FED-4223-B368-CF00480D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29CB-1C78-4AD3-AB57-7B99A16D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C22B-0CDF-4493-8961-16D07A13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AF6-3007-410B-8F5D-4C63B5A7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6B6-343B-4DAD-B6E4-31F5FDCC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297-F50C-4EDF-9EAC-BC50E219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AB1-51F1-4080-9853-87E3C646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4F9-9159-4ADA-899F-F1799B32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2D9-22D1-49DF-A0D5-3E619F99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312-075C-4471-B8F7-E48A3A91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E8D3-05B6-44C6-95F4-5F9553275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EEE5-3EC5-44AB-96F1-C70BB052D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club.foto.ru/gallery/images/photo/2008/05/16/1104369.jpg&amp;imgrefurl=http://club.foto.ru/gallery/photos/1104369&amp;usg=__4k4qvMJoXux4fzDJK7FHFV8r-sU=&amp;h=1024&amp;w=768&amp;sz=256&amp;hl=ru&amp;start=142&amp;um=1&amp;itbs=1&amp;tbnid=K7ditppUvUJvBM:&amp;tbnh=150&amp;tbnw=113&amp;prev=/images%3Fq%3D%25D0%25BA%25D0%25B0%25D1%2580%25D1%2582%25D0%25B8%25D0%25BD%25D0%25BA%25D0%25B8%2B%25D0%25BE%2B%25D0%25BF%25D0%25B0%25D1%2580%25D0%25B0%25D0%25BB%25D0%25BB%25D0%25B5%25D0%25BB%25D1%258C%25D0%25BD%25D1%258B%25D1%2585%2B%25D0%25BF%25D1%2580%25D1%258F%25D0%25BC%25D1%258B%25D1%2585%26start%3D126%26um%3D1%26hl%3Dru%26lr%3D%26newwindow%3D1%26sa%3DN%26ndsp%3D18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ru/imgres?imgurl=http://upload.wikimedia.org/wikipedia/commons/thumb/e/ec/Wenceslas_Hollar_-_William_Oughtred.jpg/250px-Wenceslas_Hollar_-_William_Oughtred.jpg&amp;imgrefurl=http://ru.wikipedia.org/wiki/%25D0%259E%25D1%2582%25D1%2580%25D0%25B5%25D0%25B4,_%25D0%25A3%25D0%25B8%25D0%25BB%25D1%258C%25D1%258F%25D0%25BC&amp;usg=__6LqDz3jZmDG3-60HVffazXZntMM=&amp;h=381&amp;w=250&amp;sz=42&amp;hl=ru&amp;start=5&amp;tbnid=dFxW6yFg4Srj_M:&amp;tbnh=123&amp;tbnw=81&amp;prev=/images%3Fq%3D%25D0%259E%25D1%2583%25D1%2582%25D1%2580%25D0%25B5%25D0%25B4%26ndsp%3D21%26hl%3Dru%26sa%3DN%26newwindow%3D1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b.mexmat.ru/covers/20060304_evklid_nachala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mclass.ru/pic/48412416ee552/pic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ogoniok.com/common/archive/2001/4701/26-27-27/26-27-1b.jpg&amp;imgrefurl=http://www.ogoniok.com/archive/2001/4701/26-27-27/&amp;usg=__l0iwTMGzMtJvafNrXDTbS1wgTYU=&amp;h=240&amp;w=400&amp;sz=36&amp;hl=ru&amp;start=213&amp;um=1&amp;itbs=1&amp;tbnid=N-9QvKE1BCjDTM:&amp;tbnh=74&amp;tbnw=124&amp;prev=/images%3Fq%3D%25D0%25BA%25D0%25B0%25D1%2580%25D1%2582%25D0%25B8%25D0%25BD%25D0%25BA%25D0%25B8%2B%25D0%25BE%2B%25D0%25BF%25D0%25B0%25D1%2580%25D0%25B0%25D0%25BB%25D0%25BB%25D0%25B5%25D0%25BB%25D1%258C%25D0%25BD%25D1%258B%25D1%2585%2B%25D0%25BF%25D1%2580%25D1%258F%25D0%25BC%25D1%258B%25D1%2585%26start%3D198%26um%3D1%26hl%3Dru%26lr%3D%26newwindow%3D1%26sa%3DN%26ndsp%3D18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ru/imgres?imgurl=http://club.foto.ru/gallery/images/photo/2006/12/04/749732.jpg&amp;imgrefurl=http://club.foto.ru/gallery/photos/749732&amp;usg=__bkSL6u1QQLGX0GYE0E_mBMXyebI=&amp;h=578&amp;w=844&amp;sz=123&amp;hl=ru&amp;start=152&amp;um=1&amp;itbs=1&amp;tbnid=88ZsGVPMGzPWMM:&amp;tbnh=99&amp;tbnw=145&amp;prev=/images%3Fq%3D%25D0%25BA%25D0%25B0%25D1%2580%25D1%2582%25D0%25B8%25D0%25BD%25D0%25BA%25D0%25B8%2B%25D0%25BE%2B%25D0%25BF%25D0%25B0%25D1%2580%25D0%25B0%25D0%25BB%25D0%25BB%25D0%25B5%25D0%25BB%25D1%258C%25D0%25BD%25D1%258B%25D1%2585%2B%25D0%25BF%25D1%2580%25D1%258F%25D0%25BC%25D1%258B%25D1%2585%26start%3D144%26um%3D1%26hl%3Dru%26lr%3D%26newwindow%3D1%26sa%3DN%26ndsp%3D18%26tbs%3Disch: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ru/imgres?imgurl=http://www.ug-lift.ru/images/101.jpg&amp;imgrefurl=http://subscribe.ru/archive/job.education.apscis.math/201001/19225735.html&amp;usg=__YmjZ4bNMyqg8FmVKkrZG0VRd5g8=&amp;h=557&amp;w=700&amp;sz=72&amp;hl=ru&amp;start=1&amp;um=1&amp;itbs=1&amp;tbnid=6w6diJPsfBGYeM:&amp;tbnh=111&amp;tbnw=140&amp;prev=/images%3Fq%3D%25D0%25BA%25D0%25B0%25D1%2580%25D1%2582%25D0%25B8%25D0%25BD%25D0%25BA%25D0%25B8%2B%25D0%25BE%2B%25D0%25BF%25D0%25B0%25D1%2580%25D0%25B0%25D0%25BB%25D0%25BB%25D0%25B5%25D0%25BB%25D1%258C%25D0%25BD%25D1%258B%25D1%2585%2B%25D0%25BF%25D1%2580%25D1%258F%25D0%25BC%25D1%258B%25D1%2585%26um%3D1%26hl%3Dru%26lr%3D%26newwindow%3D1%26sa%3DN%26tbs%3Disch: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ru/imgres?imgurl=http://club.foto.ru/gallery/images/photo/2005/01/27/341553.jpg&amp;imgrefurl=http://club.foto.ru/gallery/photos/341553&amp;usg=__KeS8nwvLA5sxuagLvnMOfFRiCl4=&amp;h=533&amp;w=800&amp;sz=264&amp;hl=ru&amp;start=75&amp;um=1&amp;itbs=1&amp;tbnid=AS41l6YywmVR_M:&amp;tbnh=95&amp;tbnw=143&amp;prev=/images%3Fq%3D%25D0%25BA%25D0%25B0%25D1%2580%25D1%2582%25D0%25B8%25D0%25BD%25D0%25BA%25D0%25B8%2B%25D0%25BE%2B%25D0%25BF%25D0%25B0%25D1%2580%25D0%25B0%25D0%25BB%25D0%25BB%25D0%25B5%25D0%25BB%25D1%258C%25D0%25BD%25D1%258B%25D1%2585%2B%25D0%25BF%25D1%2580%25D1%258F%25D0%25BC%25D1%258B%25D1%2585%26start%3D72%26um%3D1%26hl%3Dru%26lr%3D%26newwindow%3D1%26sa%3DN%26ndsp%3D18%26tbs%3Disch:1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304920"/>
            <a:ext cx="7543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аллельные прям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44197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048120"/>
            <a:ext cx="4191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Над проектом рабо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Богоченко Станисл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Краснош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Хачатрян К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Тихоми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Аспатурян Ар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56386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од руководством учителя математики Кармадоновой Елены Александр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895480"/>
            <a:ext cx="2582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96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48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08040" y="22525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990720"/>
            <a:ext cx="1447920" cy="4495680"/>
          </a:xfrm>
          <a:prstGeom prst="line">
            <a:avLst/>
          </a:prstGeom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1295280"/>
            <a:ext cx="1447920" cy="4496040"/>
          </a:xfrm>
          <a:prstGeom prst="line">
            <a:avLst/>
          </a:prstGeom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08400" y="10843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990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6360" y="4038480"/>
            <a:ext cx="5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eorgia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5240" y="1066680"/>
            <a:ext cx="13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eorgia"/>
              </a:rPr>
              <a:t>a=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1784160" cy="2667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658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410080" y="6248520"/>
            <a:ext cx="3467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. Оутред ( 1575-1660 )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3657600"/>
            <a:ext cx="1770120" cy="2590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638680" y="3276720"/>
            <a:ext cx="3467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пп ( III в. н. э. )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6019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7913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32800" y="583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9320" y="22860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ксиома параллельных прямых 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36640" y="25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921040"/>
            <a:ext cx="5334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660066"/>
                </a:solidFill>
                <a:latin typeface="Georgia"/>
              </a:rPr>
              <a:t>Через точку не лежащую  на прямой, можно провести только одну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660066"/>
                </a:solidFill>
                <a:latin typeface="Georgia"/>
              </a:rPr>
              <a:t>прямую параллельной данной.</a:t>
            </a:r>
            <a:r>
              <a:rPr b="0" i="1" lang="en-US" sz="3600" spc="-1" strike="noStrike">
                <a:solidFill>
                  <a:srgbClr val="660066"/>
                </a:solidFill>
                <a:latin typeface="Georgia"/>
              </a:rPr>
              <a:t>[4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55520" y="220968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Georgia"/>
              </a:rPr>
              <a:t>Пятый постулат Евкл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Картинка 11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276720"/>
            <a:ext cx="2210040" cy="3200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032960" y="35053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«Нача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66680" y="304920"/>
            <a:ext cx="7925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колай Иванович Лобачевский 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1792- 1856)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" descr="Картинка 1 из 4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337176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60428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78000" y="380880"/>
            <a:ext cx="524196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676520" y="5867280"/>
            <a:ext cx="662436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бло Пикассо "Мужская голов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54" name=""/>
          <p:cNvSpPr/>
          <p:nvPr/>
        </p:nvSpPr>
        <p:spPr>
          <a:xfrm>
            <a:off x="8315640" y="6135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66680" y="380880"/>
            <a:ext cx="7696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ллельные 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мые 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архитектуре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324480" y="4191120"/>
            <a:ext cx="2514600" cy="1796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85800" y="2209680"/>
            <a:ext cx="2276640" cy="1506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38862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Башни -  близнецы в Нью – Йор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53341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Московский театр (архитектор Бов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6019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риумфальная арка в Париже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[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58672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08040" y="22525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00200" y="304920"/>
            <a:ext cx="6705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    бы не был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аллельных прямых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25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2209680" cy="210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791320" y="4800600"/>
            <a:ext cx="5181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660066"/>
                </a:solidFill>
                <a:latin typeface="Georgia"/>
              </a:rPr>
              <a:t>замык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Georgia"/>
              </a:rPr>
              <a:t>нет электри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4800600"/>
            <a:ext cx="518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Georgia"/>
              </a:rPr>
              <a:t>крушение по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635280" y="5950080"/>
            <a:ext cx="52578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ейсши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8280" y="2309760"/>
            <a:ext cx="4896000" cy="3095640"/>
          </a:xfrm>
          <a:prstGeom prst="rect">
            <a:avLst/>
          </a:prstGeom>
          <a:solidFill>
            <a:srgbClr val="fef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2060640"/>
            <a:ext cx="5251680" cy="3566880"/>
          </a:xfrm>
          <a:custGeom>
            <a:avLst/>
            <a:gdLst/>
            <a:ahLst/>
            <a:rect l="l" t="t" r="r" b="b"/>
            <a:pathLst>
              <a:path w="3308" h="2247">
                <a:moveTo>
                  <a:pt x="8" y="8"/>
                </a:moveTo>
                <a:lnTo>
                  <a:pt x="132" y="159"/>
                </a:lnTo>
                <a:lnTo>
                  <a:pt x="3136" y="168"/>
                </a:lnTo>
                <a:lnTo>
                  <a:pt x="3268" y="23"/>
                </a:lnTo>
                <a:lnTo>
                  <a:pt x="3136" y="160"/>
                </a:lnTo>
                <a:lnTo>
                  <a:pt x="3160" y="2080"/>
                </a:lnTo>
                <a:lnTo>
                  <a:pt x="3308" y="2247"/>
                </a:lnTo>
                <a:lnTo>
                  <a:pt x="3160" y="2080"/>
                </a:lnTo>
                <a:lnTo>
                  <a:pt x="172" y="2063"/>
                </a:lnTo>
                <a:lnTo>
                  <a:pt x="16" y="2240"/>
                </a:lnTo>
                <a:lnTo>
                  <a:pt x="156" y="2071"/>
                </a:lnTo>
                <a:lnTo>
                  <a:pt x="128" y="168"/>
                </a:lnTo>
                <a:lnTo>
                  <a:pt x="0" y="0"/>
                </a:lnTo>
                <a:lnTo>
                  <a:pt x="3276" y="15"/>
                </a:lnTo>
                <a:lnTo>
                  <a:pt x="3308" y="2247"/>
                </a:lnTo>
                <a:lnTo>
                  <a:pt x="15" y="2243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89120" y="5237280"/>
            <a:ext cx="73080" cy="73080"/>
          </a:xfrm>
          <a:prstGeom prst="ellipse">
            <a:avLst/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69040" y="5227560"/>
            <a:ext cx="73080" cy="73080"/>
          </a:xfrm>
          <a:prstGeom prst="ellipse">
            <a:avLst/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3480" y="2381400"/>
            <a:ext cx="73080" cy="72720"/>
          </a:xfrm>
          <a:prstGeom prst="ellipse">
            <a:avLst/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47720" y="2381400"/>
            <a:ext cx="73080" cy="72720"/>
          </a:xfrm>
          <a:prstGeom prst="ellipse">
            <a:avLst/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96200" y="3466440"/>
            <a:ext cx="4939560" cy="2422440"/>
            <a:chOff x="1996200" y="3466440"/>
            <a:chExt cx="4939560" cy="2422440"/>
          </a:xfrm>
        </p:grpSpPr>
        <p:grpSp>
          <p:nvGrpSpPr>
            <p:cNvPr id="179" name=""/>
            <p:cNvGrpSpPr/>
            <p:nvPr/>
          </p:nvGrpSpPr>
          <p:grpSpPr>
            <a:xfrm>
              <a:off x="1996200" y="3466440"/>
              <a:ext cx="4871880" cy="2422440"/>
              <a:chOff x="1996200" y="3466440"/>
              <a:chExt cx="4871880" cy="2422440"/>
            </a:xfrm>
          </p:grpSpPr>
          <p:sp>
            <p:nvSpPr>
              <p:cNvPr id="180" name=""/>
              <p:cNvSpPr/>
              <p:nvPr/>
            </p:nvSpPr>
            <p:spPr>
              <a:xfrm rot="16741200">
                <a:off x="3575520" y="2346840"/>
                <a:ext cx="1712880" cy="4660920"/>
              </a:xfrm>
              <a:custGeom>
                <a:avLst/>
                <a:gdLst/>
                <a:ahLst/>
                <a:rect l="l" t="t" r="r" b="b"/>
                <a:pathLst>
                  <a:path w="1768" h="3576">
                    <a:moveTo>
                      <a:pt x="312" y="0"/>
                    </a:moveTo>
                    <a:lnTo>
                      <a:pt x="0" y="128"/>
                    </a:lnTo>
                    <a:lnTo>
                      <a:pt x="1480" y="3576"/>
                    </a:lnTo>
                    <a:lnTo>
                      <a:pt x="1768" y="3432"/>
                    </a:lnTo>
                    <a:lnTo>
                      <a:pt x="31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741200">
                <a:off x="2308320" y="4903200"/>
                <a:ext cx="87840" cy="115560"/>
              </a:xfrm>
              <a:prstGeom prst="ellipse">
                <a:avLst/>
              </a:prstGeom>
              <a:solidFill>
                <a:srgbClr val="fefd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637320" y="3892320"/>
              <a:ext cx="298440" cy="941400"/>
              <a:chOff x="6637320" y="3892320"/>
              <a:chExt cx="298440" cy="941400"/>
            </a:xfrm>
          </p:grpSpPr>
          <p:sp>
            <p:nvSpPr>
              <p:cNvPr id="183" name=""/>
              <p:cNvSpPr/>
              <p:nvPr/>
            </p:nvSpPr>
            <p:spPr>
              <a:xfrm>
                <a:off x="6637320" y="3892320"/>
                <a:ext cx="298440" cy="939960"/>
              </a:xfrm>
              <a:custGeom>
                <a:avLst/>
                <a:gdLst/>
                <a:ahLst/>
                <a:rect l="l" t="t" r="r" b="b"/>
                <a:pathLst>
                  <a:path w="188" h="592">
                    <a:moveTo>
                      <a:pt x="0" y="0"/>
                    </a:moveTo>
                    <a:lnTo>
                      <a:pt x="188" y="185"/>
                    </a:lnTo>
                    <a:lnTo>
                      <a:pt x="184" y="432"/>
                    </a:lnTo>
                    <a:lnTo>
                      <a:pt x="0" y="59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648480" y="3897360"/>
                <a:ext cx="287280" cy="936360"/>
                <a:chOff x="6648480" y="3897360"/>
                <a:chExt cx="287280" cy="9363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648480" y="3897360"/>
                  <a:ext cx="1440" cy="936360"/>
                </a:xfrm>
                <a:custGeom>
                  <a:avLst/>
                  <a:gdLst/>
                  <a:ahLst/>
                  <a:rect l="l" t="t" r="r" b="b"/>
                  <a:pathLst>
                    <a:path w="1" h="685">
                      <a:moveTo>
                        <a:pt x="0" y="0"/>
                      </a:moveTo>
                      <a:lnTo>
                        <a:pt x="1" y="685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934320" y="4145760"/>
                  <a:ext cx="1080" cy="435960"/>
                </a:xfrm>
                <a:custGeom>
                  <a:avLst/>
                  <a:gdLst/>
                  <a:ahLst/>
                  <a:rect l="l" t="t" r="r" b="b"/>
                  <a:pathLst>
                    <a:path w="1" h="319">
                      <a:moveTo>
                        <a:pt x="1" y="0"/>
                      </a:moveTo>
                      <a:lnTo>
                        <a:pt x="0" y="319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648480" y="3897360"/>
                  <a:ext cx="287280" cy="248400"/>
                </a:xfrm>
                <a:custGeom>
                  <a:avLst/>
                  <a:gdLst/>
                  <a:ahLst/>
                  <a:rect l="l" t="t" r="r" b="b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6648480" y="4578480"/>
                  <a:ext cx="287280" cy="248760"/>
                </a:xfrm>
                <a:custGeom>
                  <a:avLst/>
                  <a:gdLst/>
                  <a:ahLst/>
                  <a:rect l="l" t="t" r="r" b="b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6720120" y="4257720"/>
                <a:ext cx="144360" cy="144360"/>
              </a:xfrm>
              <a:prstGeom prst="ellipse">
                <a:avLst/>
              </a:prstGeom>
              <a:solidFill>
                <a:srgbClr val="fefd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1903320" y="4097160"/>
            <a:ext cx="4195800" cy="617760"/>
          </a:xfrm>
          <a:custGeom>
            <a:avLst/>
            <a:gdLst/>
            <a:ahLst/>
            <a:rect l="l" t="t" r="r" b="b"/>
            <a:pathLst>
              <a:path w="2643" h="389">
                <a:moveTo>
                  <a:pt x="2643" y="0"/>
                </a:moveTo>
                <a:lnTo>
                  <a:pt x="0" y="3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3320" y="3432240"/>
            <a:ext cx="4178520" cy="647640"/>
          </a:xfrm>
          <a:custGeom>
            <a:avLst/>
            <a:gdLst/>
            <a:ahLst/>
            <a:rect l="l" t="t" r="r" b="b"/>
            <a:pathLst>
              <a:path w="2632" h="408">
                <a:moveTo>
                  <a:pt x="2632" y="0"/>
                </a:moveTo>
                <a:lnTo>
                  <a:pt x="0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67040" y="4587840"/>
            <a:ext cx="4190760" cy="609480"/>
          </a:xfrm>
          <a:custGeom>
            <a:avLst/>
            <a:gdLst/>
            <a:ahLst/>
            <a:rect l="l" t="t" r="r" b="b"/>
            <a:pathLst>
              <a:path w="2640" h="384">
                <a:moveTo>
                  <a:pt x="2640" y="0"/>
                </a:moveTo>
                <a:lnTo>
                  <a:pt x="0" y="3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728240" y="2634840"/>
            <a:ext cx="1392840" cy="2140920"/>
            <a:chOff x="4728240" y="2634840"/>
            <a:chExt cx="1392840" cy="2140920"/>
          </a:xfrm>
        </p:grpSpPr>
        <p:sp>
          <p:nvSpPr>
            <p:cNvPr id="194" name=""/>
            <p:cNvSpPr/>
            <p:nvPr/>
          </p:nvSpPr>
          <p:spPr>
            <a:xfrm rot="20701800">
              <a:off x="4968000" y="2717280"/>
              <a:ext cx="900720" cy="197532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701800">
              <a:off x="5847480" y="4221360"/>
              <a:ext cx="227520" cy="3837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efde3"/>
                </a:gs>
                <a:gs pos="50000">
                  <a:srgbClr val="ff9900"/>
                </a:gs>
                <a:gs pos="100000">
                  <a:srgbClr val="fefde3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701800">
              <a:off x="6006960" y="4429440"/>
              <a:ext cx="86400" cy="1458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4755600" y="2665080"/>
              <a:ext cx="1233360" cy="1797480"/>
              <a:chOff x="4755600" y="2665080"/>
              <a:chExt cx="1233360" cy="1797480"/>
            </a:xfrm>
          </p:grpSpPr>
          <p:sp>
            <p:nvSpPr>
              <p:cNvPr id="198" name=""/>
              <p:cNvSpPr/>
              <p:nvPr/>
            </p:nvSpPr>
            <p:spPr>
              <a:xfrm rot="20701800">
                <a:off x="5002560" y="2738160"/>
                <a:ext cx="786600" cy="1650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418600">
                <a:off x="4803120" y="2781720"/>
                <a:ext cx="43200" cy="16344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4525560" y="2194560"/>
            <a:ext cx="1392480" cy="2140920"/>
            <a:chOff x="4525560" y="2194560"/>
            <a:chExt cx="1392480" cy="2140920"/>
          </a:xfrm>
        </p:grpSpPr>
        <p:sp>
          <p:nvSpPr>
            <p:cNvPr id="201" name=""/>
            <p:cNvSpPr/>
            <p:nvPr/>
          </p:nvSpPr>
          <p:spPr>
            <a:xfrm rot="20701800">
              <a:off x="4765320" y="2277000"/>
              <a:ext cx="900360" cy="197532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701800">
              <a:off x="5644800" y="3781080"/>
              <a:ext cx="227160" cy="3837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efde3"/>
                </a:gs>
                <a:gs pos="50000">
                  <a:srgbClr val="ff9900"/>
                </a:gs>
                <a:gs pos="100000">
                  <a:srgbClr val="fefde3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701800">
              <a:off x="5803920" y="3989520"/>
              <a:ext cx="86400" cy="1458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552200" y="2225520"/>
              <a:ext cx="1233000" cy="1797480"/>
              <a:chOff x="4552200" y="2225520"/>
              <a:chExt cx="1233000" cy="1797480"/>
            </a:xfrm>
          </p:grpSpPr>
          <p:sp>
            <p:nvSpPr>
              <p:cNvPr id="205" name=""/>
              <p:cNvSpPr/>
              <p:nvPr/>
            </p:nvSpPr>
            <p:spPr>
              <a:xfrm rot="20701800">
                <a:off x="4799160" y="2298960"/>
                <a:ext cx="786240" cy="1650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418600">
                <a:off x="4599720" y="2342160"/>
                <a:ext cx="43200" cy="16344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4598280" y="1488240"/>
            <a:ext cx="1392840" cy="2141280"/>
            <a:chOff x="4598280" y="1488240"/>
            <a:chExt cx="1392840" cy="2141280"/>
          </a:xfrm>
        </p:grpSpPr>
        <p:sp>
          <p:nvSpPr>
            <p:cNvPr id="208" name=""/>
            <p:cNvSpPr/>
            <p:nvPr/>
          </p:nvSpPr>
          <p:spPr>
            <a:xfrm rot="20701800">
              <a:off x="4838040" y="1570680"/>
              <a:ext cx="900720" cy="1975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701800">
              <a:off x="5717520" y="3075120"/>
              <a:ext cx="227520" cy="3837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efde3"/>
                </a:gs>
                <a:gs pos="50000">
                  <a:srgbClr val="ff9900"/>
                </a:gs>
                <a:gs pos="100000">
                  <a:srgbClr val="fefde3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0701800">
              <a:off x="5877000" y="3283200"/>
              <a:ext cx="86400" cy="1458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625280" y="1518840"/>
              <a:ext cx="1233360" cy="1797480"/>
              <a:chOff x="4625280" y="1518840"/>
              <a:chExt cx="1233360" cy="1797480"/>
            </a:xfrm>
          </p:grpSpPr>
          <p:sp>
            <p:nvSpPr>
              <p:cNvPr id="212" name=""/>
              <p:cNvSpPr/>
              <p:nvPr/>
            </p:nvSpPr>
            <p:spPr>
              <a:xfrm rot="20701800">
                <a:off x="4872240" y="1591920"/>
                <a:ext cx="786600" cy="1650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418600">
                <a:off x="4672800" y="1635480"/>
                <a:ext cx="43200" cy="16344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471" dur="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208 L -0.00104 -0.0743 E">
                                      <p:cBhvr>
                                        <p:cTn id="48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65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500"/>
                            </p:stCondLst>
                            <p:childTnLst>
                              <p:par>
                                <p:cTn id="4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487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7222 L -0.00017 -0.16667 E">
                                      <p:cBhvr>
                                        <p:cTn id="49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503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667 L -0.00243 -0.26875 E">
                                      <p:cBhvr>
                                        <p:cTn id="51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27245 L -0.20746 -0.43981 E">
                                      <p:cBhvr>
                                        <p:cTn id="51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2023200">
            <a:off x="1907640" y="1700280"/>
            <a:ext cx="5616720" cy="552744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5986800" y="871920"/>
            <a:ext cx="1724040" cy="2655360"/>
            <a:chOff x="5986800" y="871920"/>
            <a:chExt cx="1724040" cy="2655360"/>
          </a:xfrm>
        </p:grpSpPr>
        <p:sp>
          <p:nvSpPr>
            <p:cNvPr id="216" name=""/>
            <p:cNvSpPr/>
            <p:nvPr/>
          </p:nvSpPr>
          <p:spPr>
            <a:xfrm rot="20701800">
              <a:off x="6284520" y="973080"/>
              <a:ext cx="1106640" cy="2452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701800">
              <a:off x="7374240" y="2838960"/>
              <a:ext cx="279360" cy="4766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efde3"/>
                </a:gs>
                <a:gs pos="50000">
                  <a:srgbClr val="ff9900"/>
                </a:gs>
                <a:gs pos="100000">
                  <a:srgbClr val="fefde3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701800">
              <a:off x="7571520" y="3096360"/>
              <a:ext cx="106200" cy="181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6013440" y="910800"/>
              <a:ext cx="1526760" cy="2229480"/>
              <a:chOff x="6013440" y="910800"/>
              <a:chExt cx="1526760" cy="2229480"/>
            </a:xfrm>
          </p:grpSpPr>
          <p:sp>
            <p:nvSpPr>
              <p:cNvPr id="220" name=""/>
              <p:cNvSpPr/>
              <p:nvPr/>
            </p:nvSpPr>
            <p:spPr>
              <a:xfrm rot="20701800">
                <a:off x="6325560" y="1000440"/>
                <a:ext cx="966240" cy="204948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418600">
                <a:off x="6071760" y="1056960"/>
                <a:ext cx="53640" cy="20088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1664640" y="5414400"/>
            <a:ext cx="1471320" cy="2154240"/>
            <a:chOff x="1664640" y="5414400"/>
            <a:chExt cx="1471320" cy="2154240"/>
          </a:xfrm>
        </p:grpSpPr>
        <p:sp>
          <p:nvSpPr>
            <p:cNvPr id="223" name=""/>
            <p:cNvSpPr/>
            <p:nvPr/>
          </p:nvSpPr>
          <p:spPr>
            <a:xfrm rot="9738000">
              <a:off x="1956240" y="5504400"/>
              <a:ext cx="900720" cy="19738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9738000">
              <a:off x="1717560" y="5618160"/>
              <a:ext cx="227520" cy="3834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efde3"/>
                </a:gs>
                <a:gs pos="50000">
                  <a:srgbClr val="ff9900"/>
                </a:gs>
                <a:gs pos="100000">
                  <a:srgbClr val="fefde3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9738000">
              <a:off x="1694880" y="5652360"/>
              <a:ext cx="86400" cy="1458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810440" y="5725800"/>
              <a:ext cx="1296000" cy="1810440"/>
              <a:chOff x="1810440" y="5725800"/>
              <a:chExt cx="1296000" cy="1810440"/>
            </a:xfrm>
          </p:grpSpPr>
          <p:sp>
            <p:nvSpPr>
              <p:cNvPr id="227" name=""/>
              <p:cNvSpPr/>
              <p:nvPr/>
            </p:nvSpPr>
            <p:spPr>
              <a:xfrm rot="9738000">
                <a:off x="2042640" y="5806080"/>
                <a:ext cx="786600" cy="164952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3055400">
                <a:off x="3017520" y="7221240"/>
                <a:ext cx="43200" cy="16344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"/>
          <p:cNvSpPr/>
          <p:nvPr/>
        </p:nvSpPr>
        <p:spPr>
          <a:xfrm flipH="1">
            <a:off x="1619280" y="3284640"/>
            <a:ext cx="6121440" cy="936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692000" y="4653000"/>
            <a:ext cx="6119640" cy="100800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I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7640" y="357336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79640" y="566100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37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9640" y="566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4617E-006 L -0.65347 0.13648 E">
                                      <p:cBhvr>
                                        <p:cTn id="53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5.80615E-007 L 0.66927 -0.14689 E">
                                      <p:cBhvr>
                                        <p:cTn id="551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000"/>
                            </p:stCondLst>
                            <p:childTnLst>
                              <p:par>
                                <p:cTn id="5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-614520" y="4408200"/>
            <a:ext cx="2722320" cy="3343320"/>
            <a:chOff x="-614520" y="4408200"/>
            <a:chExt cx="2722320" cy="3343320"/>
          </a:xfrm>
        </p:grpSpPr>
        <p:sp>
          <p:nvSpPr>
            <p:cNvPr id="237" name=""/>
            <p:cNvSpPr/>
            <p:nvPr/>
          </p:nvSpPr>
          <p:spPr>
            <a:xfrm rot="12418200">
              <a:off x="-720" y="4579200"/>
              <a:ext cx="135180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2418200">
              <a:off x="600840" y="4453560"/>
              <a:ext cx="341280" cy="5889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2418200">
              <a:off x="694800" y="4441680"/>
              <a:ext cx="13032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-546840" y="4779360"/>
              <a:ext cx="2654640" cy="2909880"/>
              <a:chOff x="-546840" y="4779360"/>
              <a:chExt cx="2654640" cy="2909880"/>
            </a:xfrm>
          </p:grpSpPr>
          <p:sp>
            <p:nvSpPr>
              <p:cNvPr id="241" name=""/>
              <p:cNvSpPr/>
              <p:nvPr/>
            </p:nvSpPr>
            <p:spPr>
              <a:xfrm rot="12418200">
                <a:off x="-36720" y="5027040"/>
                <a:ext cx="1180800" cy="253188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228240" y="4779360"/>
                <a:ext cx="1879560" cy="2737440"/>
                <a:chOff x="228240" y="4779360"/>
                <a:chExt cx="1879560" cy="2737440"/>
              </a:xfrm>
            </p:grpSpPr>
            <p:sp>
              <p:nvSpPr>
                <p:cNvPr id="243" name=""/>
                <p:cNvSpPr/>
                <p:nvPr/>
              </p:nvSpPr>
              <p:spPr>
                <a:xfrm rot="12418200">
                  <a:off x="1095480" y="4708800"/>
                  <a:ext cx="380520" cy="287784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2418200">
                  <a:off x="298800" y="7009200"/>
                  <a:ext cx="456120" cy="421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"/>
          <p:cNvSpPr/>
          <p:nvPr/>
        </p:nvSpPr>
        <p:spPr>
          <a:xfrm>
            <a:off x="2171880" y="990720"/>
            <a:ext cx="2463480" cy="5702040"/>
          </a:xfrm>
          <a:custGeom>
            <a:avLst/>
            <a:gdLst/>
            <a:ahLst/>
            <a:rect l="l" t="t" r="r" b="b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36720" y="76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3080" y="155736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b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  <a:ea typeface="Arial"/>
              </a:rPr>
              <a:t>II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06840" y="765000"/>
            <a:ext cx="2514600" cy="5953320"/>
            <a:chOff x="3606840" y="765000"/>
            <a:chExt cx="2514600" cy="5953320"/>
          </a:xfrm>
        </p:grpSpPr>
        <p:sp>
          <p:nvSpPr>
            <p:cNvPr id="249" name=""/>
            <p:cNvSpPr/>
            <p:nvPr/>
          </p:nvSpPr>
          <p:spPr>
            <a:xfrm>
              <a:off x="3606840" y="787320"/>
              <a:ext cx="2514600" cy="5931000"/>
            </a:xfrm>
            <a:custGeom>
              <a:avLst/>
              <a:gdLst/>
              <a:ahLst/>
              <a:rect l="l" t="t" r="r" b="b"/>
              <a:pathLst>
                <a:path w="1584" h="3736">
                  <a:moveTo>
                    <a:pt x="0" y="0"/>
                  </a:moveTo>
                  <a:lnTo>
                    <a:pt x="1584" y="3736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53080" y="765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 rot="8677200">
            <a:off x="1785600" y="1950480"/>
            <a:ext cx="1849320" cy="3422520"/>
          </a:xfrm>
          <a:custGeom>
            <a:avLst/>
            <a:gdLst/>
            <a:ahLst/>
            <a:rect l="l" t="t" r="r" b="b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59520" y="1893600"/>
            <a:ext cx="5589360" cy="6248880"/>
            <a:chOff x="659520" y="1893600"/>
            <a:chExt cx="5589360" cy="6248880"/>
          </a:xfrm>
        </p:grpSpPr>
        <p:sp>
          <p:nvSpPr>
            <p:cNvPr id="253" name=""/>
            <p:cNvSpPr/>
            <p:nvPr/>
          </p:nvSpPr>
          <p:spPr>
            <a:xfrm rot="19461000">
              <a:off x="2050560" y="2179440"/>
              <a:ext cx="2806560" cy="5676840"/>
            </a:xfrm>
            <a:custGeom>
              <a:avLst/>
              <a:gdLst/>
              <a:ahLst/>
              <a:rect l="l" t="t" r="r" b="b"/>
              <a:pathLst>
                <a:path w="1768" h="3576">
                  <a:moveTo>
                    <a:pt x="312" y="0"/>
                  </a:moveTo>
                  <a:lnTo>
                    <a:pt x="0" y="128"/>
                  </a:lnTo>
                  <a:lnTo>
                    <a:pt x="1480" y="3576"/>
                  </a:lnTo>
                  <a:lnTo>
                    <a:pt x="1768" y="3432"/>
                  </a:lnTo>
                  <a:lnTo>
                    <a:pt x="312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9461000">
              <a:off x="1148760" y="3537720"/>
              <a:ext cx="144360" cy="141120"/>
            </a:xfrm>
            <a:prstGeom prst="ellipse">
              <a:avLst/>
            </a:prstGeom>
            <a:solidFill>
              <a:srgbClr val="fefd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864400" y="3136320"/>
            <a:ext cx="2122920" cy="3276720"/>
            <a:chOff x="5864400" y="3136320"/>
            <a:chExt cx="2122920" cy="3276720"/>
          </a:xfrm>
        </p:grpSpPr>
        <p:sp>
          <p:nvSpPr>
            <p:cNvPr id="256" name=""/>
            <p:cNvSpPr/>
            <p:nvPr/>
          </p:nvSpPr>
          <p:spPr>
            <a:xfrm flipH="1" rot="898200">
              <a:off x="6266520" y="3259440"/>
              <a:ext cx="135216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rot="898200">
              <a:off x="5933880" y="5561640"/>
              <a:ext cx="34164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efde3"/>
                </a:gs>
                <a:gs pos="50000">
                  <a:srgbClr val="ff9900"/>
                </a:gs>
                <a:gs pos="100000">
                  <a:srgbClr val="fefde3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898200">
              <a:off x="5902920" y="588060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081120" y="3184560"/>
              <a:ext cx="1883160" cy="2751840"/>
              <a:chOff x="6081120" y="3184560"/>
              <a:chExt cx="1883160" cy="2751840"/>
            </a:xfrm>
          </p:grpSpPr>
          <p:sp>
            <p:nvSpPr>
              <p:cNvPr id="260" name=""/>
              <p:cNvSpPr/>
              <p:nvPr/>
            </p:nvSpPr>
            <p:spPr>
              <a:xfrm flipH="1" rot="898200">
                <a:off x="6387840" y="3294000"/>
                <a:ext cx="1181160" cy="2532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19181400">
                <a:off x="7825680" y="3367440"/>
                <a:ext cx="66600" cy="24588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4565520" y="2781360"/>
            <a:ext cx="442800" cy="503280"/>
            <a:chOff x="4565520" y="2781360"/>
            <a:chExt cx="442800" cy="503280"/>
          </a:xfrm>
        </p:grpSpPr>
        <p:sp>
          <p:nvSpPr>
            <p:cNvPr id="263" name=""/>
            <p:cNvSpPr/>
            <p:nvPr/>
          </p:nvSpPr>
          <p:spPr>
            <a:xfrm>
              <a:off x="4632480" y="27813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65520" y="3141720"/>
              <a:ext cx="14472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067280" y="645336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24360" y="649116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53352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66680" y="38088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 способ построения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ллельных прямых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0.22048 0.17847 E">
                                      <p:cBhvr>
                                        <p:cTn id="603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0.22257 -0.69699 E">
                                      <p:cBhvr>
                                        <p:cTn id="624" dur="3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000"/>
                            </p:stCondLst>
                            <p:childTnLst>
                              <p:par>
                                <p:cTn id="6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000"/>
                            </p:stCondLst>
                            <p:childTnLst>
                              <p:par>
                                <p:cTn id="6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 rot="767400">
            <a:off x="1979280" y="981000"/>
            <a:ext cx="2463840" cy="5702400"/>
          </a:xfrm>
          <a:custGeom>
            <a:avLst/>
            <a:gdLst/>
            <a:ahLst/>
            <a:rect l="l" t="t" r="r" b="b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44720" y="119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61080" y="19890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b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  <a:ea typeface="Arial"/>
              </a:rPr>
              <a:t>II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48360" y="3933720"/>
            <a:ext cx="452520" cy="503280"/>
            <a:chOff x="5148360" y="3933720"/>
            <a:chExt cx="452520" cy="503280"/>
          </a:xfrm>
        </p:grpSpPr>
        <p:sp>
          <p:nvSpPr>
            <p:cNvPr id="274" name=""/>
            <p:cNvSpPr/>
            <p:nvPr/>
          </p:nvSpPr>
          <p:spPr>
            <a:xfrm>
              <a:off x="5225040" y="39337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48360" y="4294080"/>
              <a:ext cx="14436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9398000">
            <a:off x="2842920" y="836280"/>
            <a:ext cx="2463840" cy="5702400"/>
          </a:xfrm>
          <a:custGeom>
            <a:avLst/>
            <a:gdLst/>
            <a:ahLst/>
            <a:rect l="l" t="t" r="r" b="b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2805200">
            <a:off x="2825280" y="3331800"/>
            <a:ext cx="982800" cy="593640"/>
          </a:xfrm>
          <a:prstGeom prst="triangle">
            <a:avLst>
              <a:gd name="adj" fmla="val 4081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6080" y="1711080"/>
            <a:ext cx="6102720" cy="3492360"/>
            <a:chOff x="46080" y="1711080"/>
            <a:chExt cx="6102720" cy="3492360"/>
          </a:xfrm>
        </p:grpSpPr>
        <p:grpSp>
          <p:nvGrpSpPr>
            <p:cNvPr id="279" name=""/>
            <p:cNvGrpSpPr/>
            <p:nvPr/>
          </p:nvGrpSpPr>
          <p:grpSpPr>
            <a:xfrm>
              <a:off x="3142800" y="3148920"/>
              <a:ext cx="3006000" cy="2054520"/>
              <a:chOff x="3142800" y="3148920"/>
              <a:chExt cx="3006000" cy="2054520"/>
            </a:xfrm>
          </p:grpSpPr>
          <p:sp>
            <p:nvSpPr>
              <p:cNvPr id="280" name=""/>
              <p:cNvSpPr/>
              <p:nvPr/>
            </p:nvSpPr>
            <p:spPr>
              <a:xfrm rot="5772000">
                <a:off x="3834360" y="2821680"/>
                <a:ext cx="1641960" cy="282600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1bd6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5772000">
                <a:off x="3230640" y="4460760"/>
                <a:ext cx="414360" cy="5490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de3"/>
                  </a:gs>
                  <a:gs pos="50000">
                    <a:srgbClr val="ff9900"/>
                  </a:gs>
                  <a:gs pos="100000">
                    <a:srgbClr val="fefde3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772000">
                <a:off x="3190320" y="4731480"/>
                <a:ext cx="158400" cy="20880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3156480" y="3148920"/>
                <a:ext cx="2963160" cy="1972440"/>
                <a:chOff x="3156480" y="3148920"/>
                <a:chExt cx="2963160" cy="1972440"/>
              </a:xfrm>
            </p:grpSpPr>
            <p:sp>
              <p:nvSpPr>
                <p:cNvPr id="284" name=""/>
                <p:cNvSpPr/>
                <p:nvPr/>
              </p:nvSpPr>
              <p:spPr>
                <a:xfrm rot="5772000">
                  <a:off x="4151520" y="3100320"/>
                  <a:ext cx="1433880" cy="23612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3156480" y="3148920"/>
                  <a:ext cx="2763360" cy="1031760"/>
                  <a:chOff x="3156480" y="3148920"/>
                  <a:chExt cx="2763360" cy="1031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rot="5772000">
                    <a:off x="4284000" y="2181600"/>
                    <a:ext cx="462240" cy="268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5772000">
                    <a:off x="5417640" y="3687840"/>
                    <a:ext cx="553680" cy="392760"/>
                  </a:xfrm>
                  <a:prstGeom prst="ellipse">
                    <a:avLst/>
                  </a:pr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8" name=""/>
            <p:cNvGrpSpPr/>
            <p:nvPr/>
          </p:nvGrpSpPr>
          <p:grpSpPr>
            <a:xfrm>
              <a:off x="46080" y="1711080"/>
              <a:ext cx="2991240" cy="2007360"/>
              <a:chOff x="46080" y="1711080"/>
              <a:chExt cx="2991240" cy="2007360"/>
            </a:xfrm>
          </p:grpSpPr>
          <p:sp>
            <p:nvSpPr>
              <p:cNvPr id="289" name=""/>
              <p:cNvSpPr/>
              <p:nvPr/>
            </p:nvSpPr>
            <p:spPr>
              <a:xfrm rot="16513200">
                <a:off x="706680" y="1244160"/>
                <a:ext cx="1641960" cy="282600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513200">
                <a:off x="2529720" y="1861560"/>
                <a:ext cx="414360" cy="5490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513200">
                <a:off x="2823480" y="1928520"/>
                <a:ext cx="158400" cy="20880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72720" y="1793160"/>
                <a:ext cx="2964600" cy="1925280"/>
                <a:chOff x="72720" y="1793160"/>
                <a:chExt cx="2964600" cy="1925280"/>
              </a:xfrm>
            </p:grpSpPr>
            <p:sp>
              <p:nvSpPr>
                <p:cNvPr id="293" name=""/>
                <p:cNvSpPr/>
                <p:nvPr/>
              </p:nvSpPr>
              <p:spPr>
                <a:xfrm rot="16513200">
                  <a:off x="596520" y="1433520"/>
                  <a:ext cx="1433880" cy="23612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273960" y="2732040"/>
                  <a:ext cx="2763360" cy="986400"/>
                  <a:chOff x="273960" y="2732040"/>
                  <a:chExt cx="2763360" cy="98640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6513200">
                    <a:off x="1448640" y="2024280"/>
                    <a:ext cx="462240" cy="268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513200">
                    <a:off x="217800" y="2829240"/>
                    <a:ext cx="553680" cy="3927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7" name=""/>
          <p:cNvSpPr/>
          <p:nvPr/>
        </p:nvSpPr>
        <p:spPr>
          <a:xfrm flipV="1">
            <a:off x="1403640" y="2563560"/>
            <a:ext cx="3168000" cy="23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500720" y="3573360"/>
            <a:ext cx="442440" cy="503280"/>
            <a:chOff x="4500720" y="3573360"/>
            <a:chExt cx="442440" cy="503280"/>
          </a:xfrm>
        </p:grpSpPr>
        <p:sp>
          <p:nvSpPr>
            <p:cNvPr id="299" name=""/>
            <p:cNvSpPr/>
            <p:nvPr/>
          </p:nvSpPr>
          <p:spPr>
            <a:xfrm>
              <a:off x="4564440" y="35733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00720" y="3933720"/>
              <a:ext cx="14436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276720" y="4437000"/>
            <a:ext cx="441360" cy="503280"/>
            <a:chOff x="3276720" y="4437000"/>
            <a:chExt cx="441360" cy="503280"/>
          </a:xfrm>
        </p:grpSpPr>
        <p:sp>
          <p:nvSpPr>
            <p:cNvPr id="302" name=""/>
            <p:cNvSpPr/>
            <p:nvPr/>
          </p:nvSpPr>
          <p:spPr>
            <a:xfrm>
              <a:off x="3345480" y="4437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6720" y="4797360"/>
              <a:ext cx="14472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078200" y="2665080"/>
            <a:ext cx="8502840" cy="3309840"/>
            <a:chOff x="1078200" y="2665080"/>
            <a:chExt cx="8502840" cy="3309840"/>
          </a:xfrm>
        </p:grpSpPr>
        <p:grpSp>
          <p:nvGrpSpPr>
            <p:cNvPr id="305" name=""/>
            <p:cNvGrpSpPr/>
            <p:nvPr/>
          </p:nvGrpSpPr>
          <p:grpSpPr>
            <a:xfrm>
              <a:off x="1078200" y="2665080"/>
              <a:ext cx="4221720" cy="2571840"/>
              <a:chOff x="1078200" y="2665080"/>
              <a:chExt cx="4221720" cy="2571840"/>
            </a:xfrm>
          </p:grpSpPr>
          <p:sp>
            <p:nvSpPr>
              <p:cNvPr id="306" name=""/>
              <p:cNvSpPr/>
              <p:nvPr/>
            </p:nvSpPr>
            <p:spPr>
              <a:xfrm rot="15304200">
                <a:off x="2266200" y="2106000"/>
                <a:ext cx="1639080" cy="371880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1bd6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5304200">
                <a:off x="4189680" y="2596320"/>
                <a:ext cx="413640" cy="722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de3"/>
                  </a:gs>
                  <a:gs pos="50000">
                    <a:srgbClr val="ff9900"/>
                  </a:gs>
                  <a:gs pos="100000">
                    <a:srgbClr val="fefde3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5304200">
                <a:off x="4485960" y="2652480"/>
                <a:ext cx="158040" cy="27468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1119960" y="2927160"/>
                <a:ext cx="4179960" cy="2309760"/>
                <a:chOff x="1119960" y="2927160"/>
                <a:chExt cx="4179960" cy="2309760"/>
              </a:xfrm>
            </p:grpSpPr>
            <p:sp>
              <p:nvSpPr>
                <p:cNvPr id="310" name=""/>
                <p:cNvSpPr/>
                <p:nvPr/>
              </p:nvSpPr>
              <p:spPr>
                <a:xfrm rot="15304200">
                  <a:off x="2089440" y="2465280"/>
                  <a:ext cx="1431360" cy="31068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1614600" y="3881160"/>
                  <a:ext cx="3685320" cy="1355760"/>
                  <a:chOff x="1614600" y="3881160"/>
                  <a:chExt cx="3685320" cy="13557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rot="15304200">
                    <a:off x="3303720" y="2793600"/>
                    <a:ext cx="461520" cy="353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rot="15304200">
                    <a:off x="1658880" y="4489200"/>
                    <a:ext cx="552600" cy="516600"/>
                  </a:xfrm>
                  <a:prstGeom prst="ellipse">
                    <a:avLst/>
                  </a:pr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4" name=""/>
            <p:cNvGrpSpPr/>
            <p:nvPr/>
          </p:nvGrpSpPr>
          <p:grpSpPr>
            <a:xfrm>
              <a:off x="5347800" y="3349800"/>
              <a:ext cx="4233240" cy="2625120"/>
              <a:chOff x="5347800" y="3349800"/>
              <a:chExt cx="4233240" cy="2625120"/>
            </a:xfrm>
          </p:grpSpPr>
          <p:sp>
            <p:nvSpPr>
              <p:cNvPr id="315" name=""/>
              <p:cNvSpPr/>
              <p:nvPr/>
            </p:nvSpPr>
            <p:spPr>
              <a:xfrm rot="4445400">
                <a:off x="6748560" y="2788200"/>
                <a:ext cx="1639080" cy="371880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4445400">
                <a:off x="6067080" y="5315760"/>
                <a:ext cx="413640" cy="722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445400">
                <a:off x="6029280" y="5710680"/>
                <a:ext cx="158040" cy="27468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5347800" y="3355560"/>
                <a:ext cx="4190040" cy="2348280"/>
                <a:chOff x="5347800" y="3355560"/>
                <a:chExt cx="4190040" cy="2348280"/>
              </a:xfrm>
            </p:grpSpPr>
            <p:sp>
              <p:nvSpPr>
                <p:cNvPr id="319" name=""/>
                <p:cNvSpPr/>
                <p:nvPr/>
              </p:nvSpPr>
              <p:spPr>
                <a:xfrm rot="4445400">
                  <a:off x="7131960" y="3036240"/>
                  <a:ext cx="1431360" cy="31068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5347800" y="3355560"/>
                  <a:ext cx="3681720" cy="1411920"/>
                  <a:chOff x="5347800" y="3355560"/>
                  <a:chExt cx="3681720" cy="141192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rot="4445400">
                    <a:off x="6877800" y="2295720"/>
                    <a:ext cx="461520" cy="353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4445400">
                    <a:off x="8428680" y="3587760"/>
                    <a:ext cx="552600" cy="5166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23" name=""/>
          <p:cNvSpPr/>
          <p:nvPr/>
        </p:nvSpPr>
        <p:spPr>
          <a:xfrm flipV="1" rot="10277400">
            <a:off x="3848400" y="2721960"/>
            <a:ext cx="3294720" cy="205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51280" y="3213000"/>
            <a:ext cx="468000" cy="503280"/>
            <a:chOff x="3851280" y="3213000"/>
            <a:chExt cx="468000" cy="503280"/>
          </a:xfrm>
        </p:grpSpPr>
        <p:sp>
          <p:nvSpPr>
            <p:cNvPr id="325" name=""/>
            <p:cNvSpPr/>
            <p:nvPr/>
          </p:nvSpPr>
          <p:spPr>
            <a:xfrm>
              <a:off x="3916080" y="32130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51280" y="3573360"/>
              <a:ext cx="14436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-186840" y="525960"/>
            <a:ext cx="7855920" cy="6111000"/>
            <a:chOff x="-186840" y="525960"/>
            <a:chExt cx="7855920" cy="6111000"/>
          </a:xfrm>
        </p:grpSpPr>
        <p:grpSp>
          <p:nvGrpSpPr>
            <p:cNvPr id="328" name=""/>
            <p:cNvGrpSpPr/>
            <p:nvPr/>
          </p:nvGrpSpPr>
          <p:grpSpPr>
            <a:xfrm>
              <a:off x="3792960" y="2737080"/>
              <a:ext cx="3876120" cy="3899880"/>
              <a:chOff x="3792960" y="2737080"/>
              <a:chExt cx="3876120" cy="3899880"/>
            </a:xfrm>
          </p:grpSpPr>
          <p:sp>
            <p:nvSpPr>
              <p:cNvPr id="329" name=""/>
              <p:cNvSpPr/>
              <p:nvPr/>
            </p:nvSpPr>
            <p:spPr>
              <a:xfrm flipH="1" rot="8139600">
                <a:off x="4718520" y="2949480"/>
                <a:ext cx="2023560" cy="34750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1bd6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8139600">
                <a:off x="4992840" y="2852280"/>
                <a:ext cx="511200" cy="6753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de3"/>
                  </a:gs>
                  <a:gs pos="50000">
                    <a:srgbClr val="ff9900"/>
                  </a:gs>
                  <a:gs pos="100000">
                    <a:srgbClr val="fefde3"/>
                  </a:gs>
                </a:gsLst>
                <a:lin ang="129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rot="8139600">
                <a:off x="5116320" y="2832840"/>
                <a:ext cx="195480" cy="2563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8139600">
                <a:off x="5065200" y="3400560"/>
                <a:ext cx="1767600" cy="290448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3969360" y="3303360"/>
                <a:ext cx="2620440" cy="3070440"/>
                <a:chOff x="3969360" y="3303360"/>
                <a:chExt cx="2620440" cy="3070440"/>
              </a:xfrm>
            </p:grpSpPr>
            <p:sp>
              <p:nvSpPr>
                <p:cNvPr id="334" name=""/>
                <p:cNvSpPr/>
                <p:nvPr/>
              </p:nvSpPr>
              <p:spPr>
                <a:xfrm flipH="1" rot="8799600">
                  <a:off x="4829040" y="3187800"/>
                  <a:ext cx="569520" cy="330084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cbbd8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rot="8799600">
                  <a:off x="5830200" y="5685480"/>
                  <a:ext cx="682200" cy="483120"/>
                </a:xfrm>
                <a:prstGeom prst="ellipse">
                  <a:avLst/>
                </a:prstGeom>
                <a:solidFill>
                  <a:srgbClr val="cbbd8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-186840" y="525960"/>
              <a:ext cx="3875760" cy="3899520"/>
              <a:chOff x="-186840" y="525960"/>
              <a:chExt cx="3875760" cy="3899520"/>
            </a:xfrm>
          </p:grpSpPr>
          <p:sp>
            <p:nvSpPr>
              <p:cNvPr id="337" name=""/>
              <p:cNvSpPr/>
              <p:nvPr/>
            </p:nvSpPr>
            <p:spPr>
              <a:xfrm flipV="1" rot="8139600">
                <a:off x="739080" y="738000"/>
                <a:ext cx="2023560" cy="347472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927000" y="827280"/>
                <a:ext cx="2620080" cy="3070800"/>
                <a:chOff x="927000" y="827280"/>
                <a:chExt cx="2620080" cy="3070800"/>
              </a:xfrm>
            </p:grpSpPr>
            <p:sp>
              <p:nvSpPr>
                <p:cNvPr id="339" name=""/>
                <p:cNvSpPr/>
                <p:nvPr/>
              </p:nvSpPr>
              <p:spPr>
                <a:xfrm flipV="1" rot="8799600">
                  <a:off x="2117160" y="712440"/>
                  <a:ext cx="569880" cy="33004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 rot="8799600">
                  <a:off x="1003320" y="1031400"/>
                  <a:ext cx="682560" cy="483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1" name=""/>
          <p:cNvSpPr/>
          <p:nvPr/>
        </p:nvSpPr>
        <p:spPr>
          <a:xfrm flipV="1" rot="18106200">
            <a:off x="2319480" y="2520360"/>
            <a:ext cx="3009600" cy="21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859280" y="2421000"/>
            <a:ext cx="469800" cy="503280"/>
            <a:chOff x="4859280" y="2421000"/>
            <a:chExt cx="469800" cy="503280"/>
          </a:xfrm>
        </p:grpSpPr>
        <p:sp>
          <p:nvSpPr>
            <p:cNvPr id="343" name=""/>
            <p:cNvSpPr/>
            <p:nvPr/>
          </p:nvSpPr>
          <p:spPr>
            <a:xfrm>
              <a:off x="4922640" y="2421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59280" y="2781360"/>
              <a:ext cx="14436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rot="767400">
            <a:off x="3924000" y="1155600"/>
            <a:ext cx="2463840" cy="5702400"/>
          </a:xfrm>
          <a:custGeom>
            <a:avLst/>
            <a:gdLst/>
            <a:ahLst/>
            <a:rect l="l" t="t" r="r" b="b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61080" y="14130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734000">
            <a:off x="4427640" y="3500280"/>
            <a:ext cx="982440" cy="594000"/>
          </a:xfrm>
          <a:prstGeom prst="triangle">
            <a:avLst>
              <a:gd name="adj" fmla="val 4081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66680" y="38088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 способ построения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ллельных прямых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69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500"/>
                            </p:stCondLst>
                            <p:childTnLst>
                              <p:par>
                                <p:cTn id="7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72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8500"/>
                            </p:stCondLst>
                            <p:childTnLst>
                              <p:par>
                                <p:cTn id="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020000">
                                      <p:cBhvr>
                                        <p:cTn id="75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76520" y="228600"/>
            <a:ext cx="6476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752480"/>
            <a:ext cx="4419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Georgia"/>
              </a:rPr>
              <a:t>Недостаток  информации по  теме «параллельные прямые» в школьном курсе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84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868720" y="191628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b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  <a:ea typeface="Arial"/>
              </a:rPr>
              <a:t>II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767400">
            <a:off x="1979280" y="981000"/>
            <a:ext cx="2463840" cy="5702400"/>
          </a:xfrm>
          <a:custGeom>
            <a:avLst/>
            <a:gdLst/>
            <a:ahLst/>
            <a:rect l="l" t="t" r="r" b="b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050920" y="5013360"/>
            <a:ext cx="453240" cy="503280"/>
            <a:chOff x="2050920" y="5013360"/>
            <a:chExt cx="453240" cy="503280"/>
          </a:xfrm>
        </p:grpSpPr>
        <p:sp>
          <p:nvSpPr>
            <p:cNvPr id="352" name=""/>
            <p:cNvSpPr/>
            <p:nvPr/>
          </p:nvSpPr>
          <p:spPr>
            <a:xfrm>
              <a:off x="2128320" y="50133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50920" y="5373720"/>
              <a:ext cx="14472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917800" y="141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-727200" y="2700360"/>
            <a:ext cx="5974200" cy="5750640"/>
            <a:chOff x="-727200" y="2700360"/>
            <a:chExt cx="5974200" cy="5750640"/>
          </a:xfrm>
        </p:grpSpPr>
        <p:grpSp>
          <p:nvGrpSpPr>
            <p:cNvPr id="356" name=""/>
            <p:cNvGrpSpPr/>
            <p:nvPr/>
          </p:nvGrpSpPr>
          <p:grpSpPr>
            <a:xfrm>
              <a:off x="2114280" y="2700360"/>
              <a:ext cx="3132720" cy="3493800"/>
              <a:chOff x="2114280" y="2700360"/>
              <a:chExt cx="3132720" cy="3493800"/>
            </a:xfrm>
          </p:grpSpPr>
          <p:sp>
            <p:nvSpPr>
              <p:cNvPr id="357" name=""/>
              <p:cNvSpPr/>
              <p:nvPr/>
            </p:nvSpPr>
            <p:spPr>
              <a:xfrm rot="1866600">
                <a:off x="2959920" y="2893680"/>
                <a:ext cx="1606680" cy="307872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1bd6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866600">
                <a:off x="3438000" y="5533920"/>
                <a:ext cx="405360" cy="5983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de3"/>
                  </a:gs>
                  <a:gs pos="50000">
                    <a:srgbClr val="ff9900"/>
                  </a:gs>
                  <a:gs pos="100000">
                    <a:srgbClr val="fefde3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6600">
                <a:off x="3574800" y="5924160"/>
                <a:ext cx="154800" cy="2271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114280" y="2778840"/>
                <a:ext cx="3055320" cy="2927160"/>
                <a:chOff x="2114280" y="2778840"/>
                <a:chExt cx="3055320" cy="2927160"/>
              </a:xfrm>
            </p:grpSpPr>
            <p:sp>
              <p:nvSpPr>
                <p:cNvPr id="361" name=""/>
                <p:cNvSpPr/>
                <p:nvPr/>
              </p:nvSpPr>
              <p:spPr>
                <a:xfrm rot="1866600">
                  <a:off x="3202920" y="2955960"/>
                  <a:ext cx="1402920" cy="25722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"/>
                <p:cNvGrpSpPr/>
                <p:nvPr/>
              </p:nvGrpSpPr>
              <p:grpSpPr>
                <a:xfrm>
                  <a:off x="2114280" y="2916360"/>
                  <a:ext cx="2167200" cy="2736360"/>
                  <a:chOff x="2114280" y="2916360"/>
                  <a:chExt cx="2167200" cy="273636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866600">
                    <a:off x="2837160" y="2822760"/>
                    <a:ext cx="452160" cy="29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866600">
                    <a:off x="3668040" y="3057120"/>
                    <a:ext cx="541800" cy="427680"/>
                  </a:xfrm>
                  <a:prstGeom prst="ellipse">
                    <a:avLst/>
                  </a:pr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5" name=""/>
            <p:cNvGrpSpPr/>
            <p:nvPr/>
          </p:nvGrpSpPr>
          <p:grpSpPr>
            <a:xfrm>
              <a:off x="-727200" y="4953960"/>
              <a:ext cx="3099600" cy="3497040"/>
              <a:chOff x="-727200" y="4953960"/>
              <a:chExt cx="3099600" cy="3497040"/>
            </a:xfrm>
          </p:grpSpPr>
          <p:sp>
            <p:nvSpPr>
              <p:cNvPr id="366" name=""/>
              <p:cNvSpPr/>
              <p:nvPr/>
            </p:nvSpPr>
            <p:spPr>
              <a:xfrm rot="12608400">
                <a:off x="-62640" y="5176800"/>
                <a:ext cx="1606680" cy="307872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2608400">
                <a:off x="636840" y="5015160"/>
                <a:ext cx="405360" cy="5983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2608400">
                <a:off x="747360" y="4996080"/>
                <a:ext cx="154800" cy="2271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-649080" y="5445000"/>
                <a:ext cx="3021480" cy="2928960"/>
                <a:chOff x="-649080" y="5445000"/>
                <a:chExt cx="3021480" cy="2928960"/>
              </a:xfrm>
            </p:grpSpPr>
            <p:sp>
              <p:nvSpPr>
                <p:cNvPr id="370" name=""/>
                <p:cNvSpPr/>
                <p:nvPr/>
              </p:nvSpPr>
              <p:spPr>
                <a:xfrm rot="12608400">
                  <a:off x="-97920" y="5623200"/>
                  <a:ext cx="1402920" cy="25722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1" name=""/>
                <p:cNvGrpSpPr/>
                <p:nvPr/>
              </p:nvGrpSpPr>
              <p:grpSpPr>
                <a:xfrm>
                  <a:off x="243360" y="5475600"/>
                  <a:ext cx="2129040" cy="2755080"/>
                  <a:chOff x="243360" y="5475600"/>
                  <a:chExt cx="2129040" cy="27550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rot="12608400">
                    <a:off x="1216800" y="5391360"/>
                    <a:ext cx="452160" cy="29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12608400">
                    <a:off x="313920" y="7666920"/>
                    <a:ext cx="541800" cy="4276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74" name=""/>
          <p:cNvSpPr/>
          <p:nvPr/>
        </p:nvSpPr>
        <p:spPr>
          <a:xfrm rot="1336200">
            <a:off x="-5499720" y="1473840"/>
            <a:ext cx="9254160" cy="795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44" y="2286"/>
                </a:moveTo>
                <a:arcTo wR="10800" hR="10800" stAng="-3121919" swAng="2466968"/>
                <a:lnTo>
                  <a:pt x="10800" y="10800"/>
                </a:lnTo>
                <a:close/>
              </a:path>
              <a:path fill="none" w="21600" h="21600">
                <a:moveTo>
                  <a:pt x="17444" y="2286"/>
                </a:moveTo>
                <a:arcTo wR="10800" hR="10800" stAng="-3121919" swAng="2466968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564000" y="5734080"/>
            <a:ext cx="441360" cy="503280"/>
            <a:chOff x="3564000" y="5734080"/>
            <a:chExt cx="441360" cy="503280"/>
          </a:xfrm>
        </p:grpSpPr>
        <p:sp>
          <p:nvSpPr>
            <p:cNvPr id="376" name=""/>
            <p:cNvSpPr/>
            <p:nvPr/>
          </p:nvSpPr>
          <p:spPr>
            <a:xfrm>
              <a:off x="3632760" y="5734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64000" y="6094440"/>
              <a:ext cx="14472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211560" y="3700440"/>
            <a:ext cx="475200" cy="534600"/>
            <a:chOff x="3211560" y="3700440"/>
            <a:chExt cx="475200" cy="534600"/>
          </a:xfrm>
        </p:grpSpPr>
        <p:sp>
          <p:nvSpPr>
            <p:cNvPr id="379" name=""/>
            <p:cNvSpPr/>
            <p:nvPr/>
          </p:nvSpPr>
          <p:spPr>
            <a:xfrm rot="21363000">
              <a:off x="3268080" y="37134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1363000">
              <a:off x="3216240" y="4087080"/>
              <a:ext cx="14436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-60120" y="2492280"/>
            <a:ext cx="6867360" cy="3022560"/>
            <a:chOff x="-60120" y="2492280"/>
            <a:chExt cx="6867360" cy="3022560"/>
          </a:xfrm>
        </p:grpSpPr>
        <p:grpSp>
          <p:nvGrpSpPr>
            <p:cNvPr id="382" name=""/>
            <p:cNvGrpSpPr/>
            <p:nvPr/>
          </p:nvGrpSpPr>
          <p:grpSpPr>
            <a:xfrm>
              <a:off x="-60120" y="2492280"/>
              <a:ext cx="3385440" cy="1985040"/>
              <a:chOff x="-60120" y="2492280"/>
              <a:chExt cx="3385440" cy="1985040"/>
            </a:xfrm>
          </p:grpSpPr>
          <p:sp>
            <p:nvSpPr>
              <p:cNvPr id="383" name=""/>
              <p:cNvSpPr/>
              <p:nvPr/>
            </p:nvSpPr>
            <p:spPr>
              <a:xfrm rot="15867000">
                <a:off x="746280" y="1920960"/>
                <a:ext cx="1606680" cy="307872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1bd6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867000">
                <a:off x="2543040" y="2423520"/>
                <a:ext cx="405360" cy="5983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de3"/>
                  </a:gs>
                  <a:gs pos="50000">
                    <a:srgbClr val="ff9900"/>
                  </a:gs>
                  <a:gs pos="100000">
                    <a:srgbClr val="fefde3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5867000">
                <a:off x="2826000" y="2477160"/>
                <a:ext cx="154800" cy="2271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-35280" y="2638800"/>
                <a:ext cx="3360600" cy="1838520"/>
                <a:chOff x="-35280" y="2638800"/>
                <a:chExt cx="3360600" cy="1838520"/>
              </a:xfrm>
            </p:grpSpPr>
            <p:sp>
              <p:nvSpPr>
                <p:cNvPr id="387" name=""/>
                <p:cNvSpPr/>
                <p:nvPr/>
              </p:nvSpPr>
              <p:spPr>
                <a:xfrm rot="15867000">
                  <a:off x="610920" y="2175120"/>
                  <a:ext cx="1402920" cy="25722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273600" y="3723120"/>
                  <a:ext cx="3051720" cy="754200"/>
                  <a:chOff x="273600" y="3723120"/>
                  <a:chExt cx="3051720" cy="7542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15867000">
                    <a:off x="1622520" y="2649240"/>
                    <a:ext cx="452160" cy="29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5867000">
                    <a:off x="241560" y="3799440"/>
                    <a:ext cx="541800" cy="427680"/>
                  </a:xfrm>
                  <a:prstGeom prst="ellipse">
                    <a:avLst/>
                  </a:pr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1" name=""/>
            <p:cNvGrpSpPr/>
            <p:nvPr/>
          </p:nvGrpSpPr>
          <p:grpSpPr>
            <a:xfrm>
              <a:off x="3398760" y="3485520"/>
              <a:ext cx="3408480" cy="2029320"/>
              <a:chOff x="3398760" y="3485520"/>
              <a:chExt cx="3408480" cy="2029320"/>
            </a:xfrm>
          </p:grpSpPr>
          <p:sp>
            <p:nvSpPr>
              <p:cNvPr id="392" name=""/>
              <p:cNvSpPr/>
              <p:nvPr/>
            </p:nvSpPr>
            <p:spPr>
              <a:xfrm rot="5008200">
                <a:off x="4383000" y="2982240"/>
                <a:ext cx="1606680" cy="307872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5008200">
                <a:off x="3799800" y="4979880"/>
                <a:ext cx="405360" cy="5983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008200">
                <a:off x="3769920" y="5299560"/>
                <a:ext cx="154800" cy="2271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398760" y="3485520"/>
                <a:ext cx="3382200" cy="1874160"/>
                <a:chOff x="3398760" y="3485520"/>
                <a:chExt cx="3382200" cy="1874160"/>
              </a:xfrm>
            </p:grpSpPr>
            <p:sp>
              <p:nvSpPr>
                <p:cNvPr id="396" name=""/>
                <p:cNvSpPr/>
                <p:nvPr/>
              </p:nvSpPr>
              <p:spPr>
                <a:xfrm rot="5008200">
                  <a:off x="4721760" y="3230280"/>
                  <a:ext cx="1402920" cy="25722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398760" y="3485520"/>
                  <a:ext cx="3057840" cy="781560"/>
                  <a:chOff x="3398760" y="3485520"/>
                  <a:chExt cx="3057840" cy="7815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rot="5008200">
                    <a:off x="4650120" y="2414520"/>
                    <a:ext cx="452160" cy="29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5008200">
                    <a:off x="5942160" y="3736800"/>
                    <a:ext cx="541800" cy="4276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00" name=""/>
          <p:cNvSpPr/>
          <p:nvPr/>
        </p:nvSpPr>
        <p:spPr>
          <a:xfrm rot="15084000">
            <a:off x="1734840" y="2636280"/>
            <a:ext cx="2667240" cy="272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08" y="694"/>
                </a:moveTo>
                <a:arcTo wR="10800" hR="10800" stAng="-4161239" swAng="3506288"/>
                <a:lnTo>
                  <a:pt x="10800" y="10800"/>
                </a:lnTo>
                <a:close/>
              </a:path>
              <a:path fill="none" w="21600" h="21600">
                <a:moveTo>
                  <a:pt x="14608" y="694"/>
                </a:moveTo>
                <a:arcTo wR="10800" hR="10800" stAng="-4161239" swAng="3506288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-1018440" y="3475800"/>
            <a:ext cx="6484320" cy="2996280"/>
            <a:chOff x="-1018440" y="3475800"/>
            <a:chExt cx="6484320" cy="2996280"/>
          </a:xfrm>
        </p:grpSpPr>
        <p:grpSp>
          <p:nvGrpSpPr>
            <p:cNvPr id="402" name=""/>
            <p:cNvGrpSpPr/>
            <p:nvPr/>
          </p:nvGrpSpPr>
          <p:grpSpPr>
            <a:xfrm>
              <a:off x="-1018440" y="3475800"/>
              <a:ext cx="3171240" cy="2199240"/>
              <a:chOff x="-1018440" y="3475800"/>
              <a:chExt cx="3171240" cy="2199240"/>
            </a:xfrm>
          </p:grpSpPr>
          <p:sp>
            <p:nvSpPr>
              <p:cNvPr id="403" name=""/>
              <p:cNvSpPr/>
              <p:nvPr/>
            </p:nvSpPr>
            <p:spPr>
              <a:xfrm rot="15867000">
                <a:off x="-426960" y="3115800"/>
                <a:ext cx="1830960" cy="284940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1bd6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5867000">
                <a:off x="1348560" y="3455640"/>
                <a:ext cx="461880" cy="55368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de3"/>
                  </a:gs>
                  <a:gs pos="50000">
                    <a:srgbClr val="ff9900"/>
                  </a:gs>
                  <a:gs pos="100000">
                    <a:srgbClr val="fefde3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5867000">
                <a:off x="1634400" y="3481560"/>
                <a:ext cx="176400" cy="21024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-994320" y="3624480"/>
                <a:ext cx="3147120" cy="2050560"/>
                <a:chOff x="-994320" y="3624480"/>
                <a:chExt cx="3147120" cy="2050560"/>
              </a:xfrm>
            </p:grpSpPr>
            <p:sp>
              <p:nvSpPr>
                <p:cNvPr id="407" name=""/>
                <p:cNvSpPr/>
                <p:nvPr/>
              </p:nvSpPr>
              <p:spPr>
                <a:xfrm rot="15867000">
                  <a:off x="-531720" y="3345120"/>
                  <a:ext cx="1599120" cy="238032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-686520" y="4822920"/>
                  <a:ext cx="2839320" cy="852120"/>
                  <a:chOff x="-686520" y="4822920"/>
                  <a:chExt cx="2839320" cy="8521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15867000">
                    <a:off x="523440" y="3934800"/>
                    <a:ext cx="515520" cy="27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rot="15867000">
                    <a:off x="-768240" y="4951080"/>
                    <a:ext cx="617400" cy="396000"/>
                  </a:xfrm>
                  <a:prstGeom prst="ellipse">
                    <a:avLst/>
                  </a:prstGeom>
                  <a:solidFill>
                    <a:srgbClr val="cbbd8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1" name=""/>
            <p:cNvGrpSpPr/>
            <p:nvPr/>
          </p:nvGrpSpPr>
          <p:grpSpPr>
            <a:xfrm>
              <a:off x="2266920" y="4233240"/>
              <a:ext cx="3198960" cy="2238840"/>
              <a:chOff x="2266920" y="4233240"/>
              <a:chExt cx="3198960" cy="2238840"/>
            </a:xfrm>
          </p:grpSpPr>
          <p:sp>
            <p:nvSpPr>
              <p:cNvPr id="412" name=""/>
              <p:cNvSpPr/>
              <p:nvPr/>
            </p:nvSpPr>
            <p:spPr>
              <a:xfrm rot="5008200">
                <a:off x="3030840" y="3960360"/>
                <a:ext cx="1830960" cy="284940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5008200">
                <a:off x="2637000" y="5933880"/>
                <a:ext cx="461880" cy="55368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5008200">
                <a:off x="2639160" y="6253920"/>
                <a:ext cx="176400" cy="21024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2266920" y="4233240"/>
                <a:ext cx="3173040" cy="2082960"/>
                <a:chOff x="2266920" y="4233240"/>
                <a:chExt cx="3173040" cy="2082960"/>
              </a:xfrm>
            </p:grpSpPr>
            <p:sp>
              <p:nvSpPr>
                <p:cNvPr id="416" name=""/>
                <p:cNvSpPr/>
                <p:nvPr/>
              </p:nvSpPr>
              <p:spPr>
                <a:xfrm rot="5008200">
                  <a:off x="3367080" y="4196160"/>
                  <a:ext cx="1599120" cy="238032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2266920" y="4233240"/>
                  <a:ext cx="2847960" cy="856440"/>
                  <a:chOff x="2266920" y="4233240"/>
                  <a:chExt cx="2847960" cy="8564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rot="5008200">
                    <a:off x="3382200" y="3290400"/>
                    <a:ext cx="515520" cy="27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5008200">
                    <a:off x="4574160" y="4562280"/>
                    <a:ext cx="617400" cy="3960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20" name=""/>
          <p:cNvSpPr/>
          <p:nvPr/>
        </p:nvSpPr>
        <p:spPr>
          <a:xfrm rot="16595400">
            <a:off x="-615240" y="4582800"/>
            <a:ext cx="5424840" cy="29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08" y="694"/>
                </a:moveTo>
                <a:arcTo wR="10800" hR="10800" stAng="-4161239" swAng="3506288"/>
                <a:lnTo>
                  <a:pt x="10800" y="10800"/>
                </a:lnTo>
                <a:close/>
              </a:path>
              <a:path fill="none" w="21600" h="21600">
                <a:moveTo>
                  <a:pt x="14608" y="694"/>
                </a:moveTo>
                <a:arcTo wR="10800" hR="10800" stAng="-4161239" swAng="3506288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00280" y="3052440"/>
            <a:ext cx="448200" cy="533520"/>
            <a:chOff x="1700280" y="3052440"/>
            <a:chExt cx="448200" cy="533520"/>
          </a:xfrm>
        </p:grpSpPr>
        <p:sp>
          <p:nvSpPr>
            <p:cNvPr id="422" name=""/>
            <p:cNvSpPr/>
            <p:nvPr/>
          </p:nvSpPr>
          <p:spPr>
            <a:xfrm rot="21363000">
              <a:off x="1754280" y="30646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1363000">
              <a:off x="1704960" y="3438360"/>
              <a:ext cx="144360" cy="14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 rot="767400">
            <a:off x="684000" y="1557000"/>
            <a:ext cx="2463480" cy="5702400"/>
          </a:xfrm>
          <a:custGeom>
            <a:avLst/>
            <a:gdLst/>
            <a:ahLst/>
            <a:rect l="l" t="t" r="r" b="b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01800" y="1700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66680" y="38088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 способ построения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ллельных прямых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80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84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87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508040" y="22525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600200" y="30492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1828800"/>
            <a:ext cx="75960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Изучив вопросы по данной теме мы пришли к вывод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каждый разносторонне развитый ученик должен знать историю параллельных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параллельные прямые часто встречаются в окружающем нас мире, поэтому они очень ну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умение строить параллельные прямые пригодится на практике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40"/>
                            </p:stCondLst>
                            <p:childTnLst>
                              <p:par>
                                <p:cTn id="9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3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40"/>
                            </p:stCondLst>
                            <p:childTnLst>
                              <p:par>
                                <p:cTn id="9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508040" y="22525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219320" y="457200"/>
            <a:ext cx="73152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..Было бы  легче остановить  Солнце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гче сдвинуть Землю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свести параллели к схождению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508040" y="22525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371600" y="304920"/>
            <a:ext cx="7010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ые ресур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/>
          <p:nvPr/>
        </p:nvSpPr>
        <p:spPr>
          <a:xfrm>
            <a:off x="990720" y="1828800"/>
            <a:ext cx="7596000" cy="70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Г.И. Глейз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«История математики в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 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Москва «Просвещение»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1981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Georgia"/>
              </a:rPr>
              <a:t>2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. Б.Н. Миронов, З.В. Степ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«Историк и матема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Издательство «наука» Ленинградское отделение 197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3. Учебник «Геометрия 7-9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4. Использование ресурсов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5. Использование  материалов к некоторым слайдам  из презентаций учителей математик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40"/>
                            </p:stCondLst>
                            <p:childTnLst>
                              <p:par>
                                <p:cTn id="9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40"/>
                            </p:stCondLst>
                            <p:childTnLst>
                              <p:par>
                                <p:cTn id="9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6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08040" y="22525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62120" y="533520"/>
            <a:ext cx="784836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057400"/>
            <a:ext cx="510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Georgia"/>
              </a:rPr>
              <a:t>Без параллельных прям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Georgia"/>
              </a:rPr>
              <a:t>невозмож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Georgia"/>
              </a:rPr>
              <a:t>наша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39625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8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057400" y="304920"/>
            <a:ext cx="5943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: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981080"/>
            <a:ext cx="75438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i="1" lang="en-US" sz="4800" spc="-1" strike="noStrike">
                <a:solidFill>
                  <a:srgbClr val="660066"/>
                </a:solidFill>
                <a:latin typeface="Georgia"/>
              </a:rPr>
              <a:t>Показать необходимость и значимость параллельных прям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1600200"/>
            <a:ext cx="1638360" cy="1219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1828800"/>
            <a:ext cx="1600200" cy="1244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5181480"/>
            <a:ext cx="1638360" cy="1298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066680" y="5334120"/>
            <a:ext cx="167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23880" y="457200"/>
            <a:ext cx="647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133720"/>
            <a:ext cx="75963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Изучить историю возникновения параллельных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Узнать  историю развития параллельных  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Научиться выполнять построения параллельных прямых разными способами с помощью различных инструментов: линейки, угольника, циркуля и рейс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228600"/>
            <a:ext cx="6477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много из истории...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8040" y="2252520"/>
            <a:ext cx="64166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«параллелой»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рядом идущие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«друг подле друга проведенн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(перевод с греческого языка)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19320" y="457200"/>
            <a:ext cx="7543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ные определения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ллельных прямых...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62720" y="28954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66680" y="2057400"/>
            <a:ext cx="7596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« Параллельные суть прям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торые, находясь в одной плоскост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удучи продолжены в о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ороны неограниче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и с той, ни с друг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ороны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бой не встречаются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[2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876920" y="5791320"/>
            <a:ext cx="4000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вкли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в lll в. до н. э.)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960"/>
                            </p:stCondLst>
                            <p:childTnLst>
                              <p:par>
                                <p:cTn id="1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19320" y="457200"/>
            <a:ext cx="7543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ные определения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ллельных прямых...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08040" y="331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22440" y="3009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135160"/>
            <a:ext cx="55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«Две прямые, лежащ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в одной плоск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и равностоящ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друг от друга.»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[1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09088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800600" y="5638680"/>
            <a:ext cx="4038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идон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 I в. до н.э. )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20"/>
                            </p:stCondLst>
                            <p:childTnLst>
                              <p:par>
                                <p:cTn id="1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09680" y="1828800"/>
            <a:ext cx="6416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660066"/>
                </a:solidFill>
                <a:latin typeface="Georgia"/>
              </a:rPr>
              <a:t>Параллельные прямые -это прямые, лежащие в одной плоскости и не пересекающиеся.</a:t>
            </a:r>
            <a:r>
              <a:rPr b="1" i="1" lang="en-US" sz="4000" spc="-1" strike="noStrike">
                <a:solidFill>
                  <a:srgbClr val="660066"/>
                </a:solidFill>
                <a:latin typeface="Georgia"/>
              </a:rPr>
              <a:t>[3]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81080" y="990720"/>
            <a:ext cx="553428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реме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57400" y="4724280"/>
            <a:ext cx="55339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реде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60958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1-23T08:20:5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